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A9F-579B-4D30-B3D6-5FBFC2B6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929-F032-4F37-8B47-C0D20F72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844-1F02-4C9B-BAF8-CF6CCE70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046-DF3D-478D-9AFA-D203F996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9D1-793B-467B-95EC-2BC65911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CE3-C22E-4A4A-A762-6298496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F79-6612-4D8F-A344-9610326A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997-9BDD-4655-808E-E745032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E61-1CB2-479A-8B05-43063428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1A0-8E6C-4646-A345-F77828E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D39-AF7A-4230-9CB4-A8A34F1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60E-4640-4DD2-8FFD-C633546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FE9-DC8D-4581-9225-C7DCC4C0C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.xml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5128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AZIRLA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İNE HATİPOĞ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628640"/>
            <a:ext cx="6191280" cy="25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NÜKLEİK ASİTLE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30872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OKSİRİBONÜKLEİK ASİT(DNA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67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ift zincirlidir ve sarmal        yapıdad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oksiriboz şekeri bulun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ükleotitleri A,T,G,S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denin sayısı Timin sayısına, Guanin sayısı Sitozin sayısına eşitti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denin ile Timin arasında iki, Guanin ile Sitozin arasında ise üç tane zayıf hidrojen bağı vardır.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803240"/>
            <a:ext cx="4535280" cy="42325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41460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12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endini tek taraflı olarak eşleyebi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enlerdeki değişmeye mutasyon den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itokondri, kloroplast, çekirdek, çekirdek yoksa sitoplazmada bulunabilir. Ancak kloroplast ve mitokondrideki DNA’lar kalıtım materyali sayılmazlar, bunlar eşlenirken çekirdek DNA’sına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ağımlıdırl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tabiatta kendini eşleyerek benzerini yapabilen tek moleküld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sentezi sırasında açığa çıkan su sayısı (n;nükleotit sayısı olmak üzere) 3n-2 taned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NA’nın Eşlenmesi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(Replikasy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238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kendini yarı korunumlu olarak eş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lar hücre bölünmesinin interfaz safhasında meydana ge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eplikasyonda görev alan enzim DNA polimeraz enzim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’nın kendini bu şekilde yarı korunumlu olarak eşlemesine seminkonservatif eşlenme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17960" cy="460836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İKASY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4321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 hücrede DNA’nın eşlenmeye başlaması hücrenin mutlaka bölüneceği anlamına ge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ğer DNA bir ucundan değil de orta kısımlarından açılırsa protein sentezi için şifre verecek demektir.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21440" cy="439236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’nın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824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ölünme ile oluşan DNA’lar aynı genetik bilgiyi taşır,hücre sayısı artar,canlılarda büyüme ve üreme olur, üremeyle karakterler yavrulara aktarıl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’nın görevi canlılar arasındaki çeşitliliği sağlamak ,hücreyi yönetmek ,replikasyon ile canlılarda büyüme ve kalıtsal karakterlerin aktarılmasını sağlamak,trankripsiyon ile de RNA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ntezini yapmaktı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32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NA) RİBONÜKLEİK ASİ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3970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zincirl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iboz şekeri bulun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i A,U,G,S’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endini eşleyemez.DNA’dan sentezl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itokondri,kloroplast,çekirdek ve sitoplazmada bulunabil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43280" y="1268280"/>
            <a:ext cx="3481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681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3 çeşittir ve hepsi de protein sentezinde görevlidir.çekirdekte üretilir ve tekrar tekrar kullanılabi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iboz şekeri bulunduran Adenin nükleotidi RNA’dan başka ATP,NAD,NADP ve FAD gibi moleküllerinde bulun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azı virüslerde sadece RNA bulunduğu için bunlarda RNA kalıtsal görevi üstlenmiştir,yani kendini eşleyebil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73440" cy="41767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3887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nın yapısında protein yokt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ların DNA üzerinden sentezine transkripsiyon (yazılma)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 DNA’nın tek zincirinden ol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da görevli enzim RNA polimeraz enzimi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ya şifre veren DNA parçasına ge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392360" cy="41752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RNA (Elçi RNA = Mesajcı R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475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NA’dan aldığı bilgiyi ribozoma taş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Ribozom birimlerini aktifleştirir ve protein sentezine kalıplık yapa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r protein çeşidi için ayrı bir mRNA sentezleni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 mRNA aynı proteinin sentezinde çok defa kullanılabil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eterli protein sentezlendikten sonra mRNA yıkıl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RNA düz bir zincir biçiminde olup hücredeki RNA’ların en az oranda bulunanıd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954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RNA (Elçi RNA = Mesajcı R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56000" y="1628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RNA’ daki üçlü nükleotit grubuna kodo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kodon bir tRNA ve bir aminoasiti be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tr-T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=64 çeşit kodon vardır.Bunlardan biri başlama kodonu (AU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ç tanesi de (UAG-UGA-UAA) bitiş kodonu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tiş kodonlarının aminoasiti yoktu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411012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İÇİNDEKİ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MAÇ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KAZANDIRILACAK 21.YÜZYIL BECERİLER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EMEL S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KİM BULMUŞ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KAÇ ÇEŞİ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ÜKLEİK ASİTLERİN YAP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DNA –RNA YAPISAL FARKLILIK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DEOKSİRİBONÜKLEİK ASİ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DNA’nın Eşlenmesi_x000b_(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Replikasyon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DNAnın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GÖREVLER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(RNA)RİBONÜKLEİK ASİ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m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(Elçi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(Taşıyıcı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r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(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Ribozomal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 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TEŞEKK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7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NA (Taşıyıcı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824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itoplazmadaki aminoasitleri mRNA’ daki şifreye göre ribozoma götür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RNA’ daki üçlü nükleotit grubuna antikodon denir.Maksimum 64 çeşit antikodon olması gerekirken 61 çeşit antikodon vardır.Bunun sebebi ise bitiş kodonlarının aminoasitlerinin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lmamasıd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üz zincirli değildir.Belli bölgelerinde çiftler oluşmuş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30800" cy="44640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RNA (Ribozomal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62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teinlerle birlikte ribozomun yapısını oluşturur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üz zincirl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deki RNA’ların çoğu rRNA’dır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464000" cy="37036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789360"/>
            <a:ext cx="799308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İZİ DİNLEDİĞİNİZ İÇİ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ŞEKKÜRL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Ç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ğrencilerin kendi bilgilerini kullanarak farklı yollarla çözüm üretmelerini sağla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ştırma isteklerini ortaya çıka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umluluk alarak engelleri aşabileceklerinin farkına varmalarını sağla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letişim ve etkileşim ile öğrenmelerini kolaylaştı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ratıcı düşünme becerilerini ortaya çıka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ZANDIRILMAK İSTENEN 21.YÜZYIL BECERİ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çözmek ve soruları yanıtlamak üzere bilgiyi sınırlandırmak, çözümlemek ve birleştirme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ak bir amaca ulaşabilmek için gerekli çabayı gösterecek şekilde esnek ve istekli olmak ve takım çalışması yapabilm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lerin çözümüne yönelik olarak; bilgiye yeterli ve etkili düzeyde ulaşmak, bilgiyi eleştirel ve yeterli düzeyde değerlendirmek, doğru ve yaratıcı bir şekilde kullanm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giyi araştırmak, düzenlemek, değerlendirmek ve paylaşmak üzere teknolojiyi araç olarak kullanmak, ve bilginin erişimine ve kullanımına yönelik olarak etik ve yasal konularda temel bir anlayışa sahip olm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404640"/>
            <a:ext cx="741672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babamıza benzerliğimiz nereden gelmekt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4856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İM BUL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moleküller ilk defa Friderich Miescher tarafından balık spermi ve akyuvar çekirdeğinde tespit ed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çok çekirdekte bulundukları için nükleik asitler(çekirdek asitleri) diye isimlendir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460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Ç ÇEŞİ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sidik özelliğe sahiptirler. Hücre yönetiminden sorumludurla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ve RNA olmak üzere 2 tip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nlar hücrenin en büyük dev moleküllerdi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den oluşmuştur. Onun için DNA ve RNA birer    polinükleotid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ÜKLEOTİD YA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46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 denilen birimlerden meydana gelmişler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Fosfat(H</a:t>
            </a:r>
            <a:r>
              <a:rPr b="0" lang="tr-T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tr-T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5 C lu şeker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zotlu organik bazdan oluş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ler isimlerini taşıdıkları organik baza göre alır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767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-RNA YAPISAL FARKLILIK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240"/>
                <a:gridCol w="1641600"/>
              </a:tblGrid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ÜKLE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C’LU ŞEK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’LU ORGANİK 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FOR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ÜR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İMİD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KSİRİB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M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İB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Sİ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0:47:31Z</dcterms:created>
  <dc:creator>samsung</dc:creator>
  <dc:description/>
  <dc:language>en-US</dc:language>
  <cp:lastModifiedBy>samsung</cp:lastModifiedBy>
  <dcterms:modified xsi:type="dcterms:W3CDTF">2011-01-03T21:15:42Z</dcterms:modified>
  <cp:revision>29</cp:revision>
  <dc:subject/>
  <dc:title>Slayt 1</dc:title>
</cp:coreProperties>
</file>